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7BFC-A452-42F3-AD62-4A968918A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831C-4423-412B-A078-92B749608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8A35-8D31-4AEC-96E7-9F90B8D96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9712-7EC1-4F05-B893-91741EFDF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D2396-18DA-4091-98B0-C25BD5346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6DF3F-FF74-4835-9D3F-16D5333D3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35B26-C986-4919-9363-7E8C7EE50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AD6DF-B751-47B6-AB8C-E747EC6B0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DD277-5E40-48E1-AB9B-F4CBB8FE0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6FF7B-051B-4E84-85CF-8279767BD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B0899-1CE8-43FE-8E86-19C5400E0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614A-CEAE-4DE6-BEFE-C1667111D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A4228-8911-4EA7-919A-8289BDF11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A41D9-8EEE-48F1-BFF6-888FAC573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47004-58F7-4E45-AFF0-4670005CF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534FF-5A38-48FD-8A60-EB5B5387E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D753C-358A-43BB-B962-3F89B565C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04C6-6CAD-4184-8A95-41E5B15B3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1DA9-DDDB-48C8-94A2-8BA74602E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3981-74A6-4AEE-B1B4-87DC0E936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FC5E-51AF-44CF-B26E-37506DA9C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F37A-8E6F-43ED-98A3-E69072857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3083-3E7D-49AB-B054-83249CA37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230E-F14A-40DC-91FC-6290BFA54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29EF6-FE3A-41D0-AECB-A815DEBB3C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0D166-B2E2-47DB-A7D4-F278CDABC8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eople acting together as a group can accomplish things which no individual acting alone could ever hope to bring abou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3081240" y="2057400"/>
            <a:ext cx="3259080" cy="37339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228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"Perhaps the secret to effective action lies in how you interpret the length of the "day" in Carpe Diem. If it's a moment, or a day, you're cutting down the odds for success. But if you recognize that in business as in sports (or any of life, for that matter), there's a "season" made up of several opportunities, those odds go up considerably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200400" y="2819520"/>
            <a:ext cx="3171960" cy="38163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066680" y="1752480"/>
            <a:ext cx="6604200" cy="41943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mpress upon every man, from first to the lowest, the importance of the cause and what it is they are contending fo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905120" y="1905120"/>
            <a:ext cx="5410080" cy="40240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 knows what force gnaws at us, telling us that our accomplishments, no matter how sensational, are not enough and we need to do mo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276720" y="2286000"/>
            <a:ext cx="2514600" cy="31370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a turtle is on top of a fencepost, he sure didn’t get there by himself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828800" y="2057400"/>
            <a:ext cx="5257800" cy="40035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 educated guess is as accurate and far faster than compiled error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895480" y="1981080"/>
            <a:ext cx="3386160" cy="40770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omplacency is the last hurdle any winner, any team must overcome before attaining potential greatness. 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429000" y="2514600"/>
            <a:ext cx="2400480" cy="33908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ccess is never final; failure is never fatal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276720" y="2438280"/>
            <a:ext cx="2641320" cy="34927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re is only one way to do anything:  The right way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971800" y="2209680"/>
            <a:ext cx="3211560" cy="35686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ere is no greater waste of a resource than that of unrealized talent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438280" y="2031840"/>
            <a:ext cx="4343400" cy="40640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8T17:05:07Z</dcterms:created>
  <dc:creator>Ed Center RLASD</dc:creator>
  <dc:description/>
  <dc:language>en-US</dc:language>
  <cp:lastModifiedBy>Ed Center RLASD</cp:lastModifiedBy>
  <dcterms:modified xsi:type="dcterms:W3CDTF">2011-06-08T17:55:02Z</dcterms:modified>
  <cp:revision>1</cp:revision>
  <dc:subject/>
  <dc:title>People acting together as a group can accomplish things which no individual acting alone could ever hope to bring about.</dc:title>
</cp:coreProperties>
</file>